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47C-8215-4C85-9E4B-11A20ABD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751-E6F6-4E5B-9019-32B4AC7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5AC-8BB1-47DA-81E5-60D22921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5D7-BBF8-46A0-B999-88C3DA35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CFE-F094-4B1A-BAED-7A7748C7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181-5529-4DE7-B589-E03FC79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2A4-0E94-49E0-B9AD-EC8356B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5AE-D0A1-462B-BA88-31E8CFEE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BF1-4487-4A63-AB1C-85A30EF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A42-C170-454D-8DDE-981265A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220-9A96-4921-9965-27AF547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F6A-CE81-4B03-A245-954F21A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13F-F2E3-46A0-8C68-EF86F043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57150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am Alpha | Patient Room of the Future | Oct. 11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3716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pplying General Design Solutions to Hughes Spal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yfinding + Infectio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Principle: Infection Contr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447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5120" y="153828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64440" y="259092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Poor hand washing practices lead to higher nosocom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86200"/>
            <a:ext cx="7239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Hand washing compliance rates are typically 15-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  <a:ea typeface="Cochin"/>
              </a:rPr>
              <a:t>There are 2 million nosocomial infections per year in the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447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2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5120" y="152388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ochin"/>
              </a:rPr>
              <a:t>Implement solutions that result in very low infec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7600" y="251460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Inconvenient sink locations and forgetfulness are barriers to pro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hand washing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3886200"/>
            <a:ext cx="71629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Hand washing compliance rates are typically 15-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  <a:ea typeface="Cochin"/>
              </a:rPr>
              <a:t>Alcohol-based hand-cleaners at bedside increase hand washing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Infection Control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905120"/>
            <a:ext cx="83059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“</a:t>
            </a: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Clean Hands” RFID Trac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RFID-based compli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Detects doctor’s entrance into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Alerts doctor if Patient Zone entered without  hand w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Records when doctor washes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Infection Control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905120"/>
            <a:ext cx="83059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“</a:t>
            </a: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Color me Clean” Antibacterial Gel/F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4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35816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Hand cleaner that changes colors when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Similar to Coppertone Kids sun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Provides visual evidence of sanitiz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9574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mmary of Propose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20968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ep-by-Ste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1fcc5f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1fcc5f"/>
                </a:solidFill>
                <a:latin typeface="Century Gothic"/>
              </a:rPr>
              <a:t>Clean Hands’ RFID-trac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0040"/>
                </a:solidFill>
                <a:latin typeface="Century Gothic"/>
              </a:rPr>
              <a:t>‘</a:t>
            </a:r>
            <a:r>
              <a:rPr b="0" lang="en-US" sz="2800" spc="-1" strike="noStrike">
                <a:solidFill>
                  <a:srgbClr val="800040"/>
                </a:solidFill>
                <a:latin typeface="Century Gothic"/>
              </a:rPr>
              <a:t>Color me Clean’ Antibacterial Gel/F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447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Principle: Wayfi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atient anxiety increases because lack of understanding and control over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1480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s floor plan complexity increases, wayfinding performanc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e addition of signage results in 13% increased rate of travel and 62% decrease in backtra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s tasks become more difficult, your STM performance deterio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97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Ineffective wayfinding costs hospitals a significant amount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26708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Annual cost of wayfinding is $448/bed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cc5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1fcc5f"/>
                </a:solidFill>
                <a:latin typeface="Century Gothic"/>
              </a:rPr>
              <a:t>4,500 non-designated staff hours (2 F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914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the hospital environment and wayfinding processes in order to reduce stress and anxiety for patients, visitors, and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Key Points in the Evidenc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986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Hospitals are not designed for the size or cognitive ability of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17204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Children orient themselves at a “start”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Younger children have problems estimating direction and  learning a specific ro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Graphical signage produces the greatest rate of tra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905120"/>
            <a:ext cx="75438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080"/>
                </a:solidFill>
                <a:uFillTx/>
                <a:latin typeface="Century Gothic"/>
              </a:rPr>
              <a:t>Step-by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tting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rta: walking maps, shuttl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ar: large, uniform, graphical signage (for parking + hospital ent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n foot: colored footprints that lead to ent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905120"/>
            <a:ext cx="36576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ntering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D hospital mock-up with light-up directions and ability to print    step-by-step customized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8862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828800"/>
            <a:ext cx="75438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roughout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terior Layout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andma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(ex: things that everyone can identify--large, physical stru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lors/the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to help differentia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iling/floor design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that lead you in the correct directions (subtly, but clear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52480" y="6248520"/>
            <a:ext cx="7010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095880"/>
            <a:ext cx="60962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33520"/>
            <a:ext cx="18288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8580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4343400"/>
            <a:ext cx="0" cy="20574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5867280"/>
            <a:ext cx="152280" cy="152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762120"/>
            <a:ext cx="152640" cy="152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posed Wayfinding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5438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roughout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5 components of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ignag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Graphic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for kids + no languag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xtua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- LED signs + clear and concise + multipl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nifor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Consistent layout +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Uses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andmarks and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- for both adult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1:22Z</dcterms:created>
  <dc:creator>Diane Dutcher</dc:creator>
  <dc:description/>
  <dc:language>en-US</dc:language>
  <cp:lastModifiedBy>Diane Dutcher</cp:lastModifiedBy>
  <dcterms:modified xsi:type="dcterms:W3CDTF">2007-10-11T20:11:03Z</dcterms:modified>
  <cp:revision>58</cp:revision>
  <dc:subject/>
  <dc:title>PowerPoint Presentation</dc:title>
</cp:coreProperties>
</file>